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77045"/>
        <c:axId val="89530795"/>
      </c:barChart>
      <c:catAx>
        <c:axId val="10677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30795"/>
        <c:crosses val="autoZero"/>
        <c:auto val="1"/>
        <c:lblAlgn val="ctr"/>
        <c:lblOffset val="100"/>
        <c:noMultiLvlLbl val="0"/>
      </c:catAx>
      <c:valAx>
        <c:axId val="89530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77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8AA5-E6E6-40BE-81F0-D2E33679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9D2-F9C4-4832-BA46-73FA8BB0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55E-E46C-4078-825B-D257E65A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7BC-93C6-4E53-99FE-A48551A6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C44-53ED-4B5F-B3EB-80F75E65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AD4-3DE9-4E6D-A316-8A9798BB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24D-0BC2-43E0-BF63-9F3007B9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30D-E0A7-428E-8E4F-8B9EEE50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683-FA72-4C5F-A1FB-13C9E2C2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659-EB28-48A4-91D0-38679F54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6A5-7313-4484-974E-3F335BE7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2DE-D1A8-48E1-BCE6-F65DD70B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E7817-89B9-4516-92BC-2C510BDA64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